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5.png" ContentType="image/png"/>
  <Override PartName="/ppt/media/image10.png" ContentType="image/png"/>
  <Override PartName="/ppt/media/image27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36.jpeg" ContentType="image/jpeg"/>
  <Override PartName="/ppt/media/image37.gif" ContentType="image/gif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24.jpeg" ContentType="image/jpe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4D8-92E9-4782-BCE1-58087BEC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807D-52FD-4C98-B40B-CEE1F556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BDF5-C96D-4AC6-94BD-10E58C87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B03C-1737-40BE-9E2F-C7E7761F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708C-13F3-4564-9D1D-296B2D59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979-7B54-4F0F-9910-4C150E77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CDB4-2D00-41A9-93BE-1ED33FD9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ABD3-88E9-4D7D-806F-6411F841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D8D-7545-453B-ADD4-81945F5E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7F59-A1C4-4CF4-9BEF-A517B036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FD7-5FE9-41E5-ACE1-4A3761C9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4F2-9087-44F8-AF44-45E6CF4B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EF9A-92FD-435D-84B9-E38A995848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ellsalive.com/mitosis.htm" TargetMode="External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everyschool.org/u/logan/cellreproductionx/rogersa/research/meiosis.html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everyschool.org/u/logan/cellreproductionx/rogersa/research/meiosis.html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everyschool.org/u/logan/cellreproductionx/rogersa/research/meiosis.html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http://everyschool.org/u/logan/cellreproductionx/rogersa/research/meiosis.html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everyschool.org/u/logan/cellreproductionx/rogersa/research/meiosis.html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ff33"/>
                </a:solidFill>
                <a:latin typeface="Arial"/>
              </a:rPr>
              <a:t>The Cell Cycle </a:t>
            </a:r>
            <a:br>
              <a:rPr sz="7200"/>
            </a:br>
            <a:r>
              <a:rPr b="1" lang="en-US" sz="7200" spc="-1" strike="noStrike">
                <a:solidFill>
                  <a:srgbClr val="ccff33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ccff33"/>
                </a:solidFill>
                <a:latin typeface="Arial"/>
              </a:rPr>
              <a:t> Cell Division</a:t>
            </a:r>
            <a:endParaRPr b="0" lang="en-US" sz="7200" spc="-1" strike="noStrike">
              <a:solidFill>
                <a:srgbClr val="ccff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33"/>
                </a:solidFill>
                <a:latin typeface="Arial"/>
              </a:rPr>
              <a:t>Prophase</a:t>
            </a:r>
            <a:endParaRPr b="0" lang="en-US" sz="5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828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63244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graphs from: http://www.bioweb.uncc.edu/biol1110/Stages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Metaphase</a:t>
            </a:r>
            <a:br>
              <a:rPr sz="4000"/>
            </a:b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The cell prepares chromosomes for division</a:t>
            </a:r>
            <a:endParaRPr b="0" lang="en-US" sz="40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mosomes line up at the center of the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dle fibers attach from daughter cells to chromosomes at the centrom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00600" y="182844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mosomes line up at the center of the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dle fibers attach from daughter cells to chromosomes at the centrom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971800" y="4419720"/>
            <a:ext cx="305748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33"/>
                </a:solidFill>
                <a:latin typeface="Arial"/>
              </a:rPr>
              <a:t>Metaphase</a:t>
            </a:r>
            <a:endParaRPr b="0" lang="en-US" sz="5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1828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0880" y="63244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graphs from: http://www.bioweb.uncc.edu/biol1110/Stages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Anaphase</a:t>
            </a:r>
            <a:br>
              <a:rPr sz="4000"/>
            </a:b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The chromosomes divide</a:t>
            </a:r>
            <a:endParaRPr b="0" lang="en-US" sz="40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884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dle fibers pull chromosomes ap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½ of each chromosome (called chromotid) moves to each daughter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dle fibers pull chromosomes ap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½ of each chromosome (called chromotid) moves to each daughter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23180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33"/>
                </a:solidFill>
                <a:latin typeface="Arial"/>
              </a:rPr>
              <a:t>Anaphase</a:t>
            </a:r>
            <a:endParaRPr b="0" lang="en-US" sz="5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828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27432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63244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graphs from: http://www.bioweb.uncc.edu/biol1110/Stages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Telophase</a:t>
            </a:r>
            <a:br>
              <a:rPr sz="4000"/>
            </a:b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The cytoplasm divides</a:t>
            </a:r>
            <a:endParaRPr b="0" lang="en-US" sz="40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spreads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nuclei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wall pinches in to form the 2 new daughter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00600" y="1523520"/>
            <a:ext cx="4038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spreads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nuclei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cell wall forms between to nuclei to form the 2 new daughter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124080" y="3124080"/>
            <a:ext cx="263844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33"/>
                </a:solidFill>
                <a:latin typeface="Arial"/>
              </a:rPr>
              <a:t>Telophase</a:t>
            </a:r>
            <a:endParaRPr b="0" lang="en-US" sz="5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828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880" y="63244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graphs from: http://www.bioweb.uncc.edu/biol1110/Stages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Mitosis</a:t>
            </a:r>
            <a:r>
              <a:rPr b="0" lang="en-US" sz="44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895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"/>
                <a:hlinkClick r:id="rId1"/>
              </a:rPr>
              <a:t>http://www.cellsalive.com/mitosis.htm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76520" y="-720"/>
            <a:ext cx="61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Animal Mitosis -- Re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1066680"/>
          <a:ext cx="7391520" cy="5577120"/>
        </p:xfrm>
        <a:graphic>
          <a:graphicData uri="http://schemas.openxmlformats.org/drawingml/2006/table">
            <a:tbl>
              <a:tblPr/>
              <a:tblGrid>
                <a:gridCol w="3733920"/>
                <a:gridCol w="3657600"/>
              </a:tblGrid>
              <a:tr h="213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o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1905120" cy="127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486400" y="1447920"/>
            <a:ext cx="1905120" cy="1276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676520" y="3352680"/>
            <a:ext cx="1904760" cy="1276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10080" y="3352680"/>
            <a:ext cx="1905120" cy="1276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676520" y="5181480"/>
            <a:ext cx="1904760" cy="1276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486400" y="5257800"/>
            <a:ext cx="19051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828800" y="105480"/>
            <a:ext cx="569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Plant Mitosis -- Re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0720" y="914400"/>
          <a:ext cx="8693280" cy="5667480"/>
        </p:xfrm>
        <a:graphic>
          <a:graphicData uri="http://schemas.openxmlformats.org/drawingml/2006/table">
            <a:tbl>
              <a:tblPr/>
              <a:tblGrid>
                <a:gridCol w="4386240"/>
                <a:gridCol w="4307040"/>
              </a:tblGrid>
              <a:tr h="216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o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1905120" cy="914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95880" y="1523880"/>
            <a:ext cx="190512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600200" y="3505320"/>
            <a:ext cx="190512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172200" y="3429000"/>
            <a:ext cx="1905120" cy="990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752480" y="5334120"/>
            <a:ext cx="1905120" cy="914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6095880" y="5334120"/>
            <a:ext cx="1905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The Cell Cycle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486400" cy="5105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61722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32448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obel.se/medicine/laureates/2001/press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33"/>
                </a:solidFill>
                <a:latin typeface="Arial"/>
              </a:rPr>
              <a:t>MEIOSIS</a:t>
            </a:r>
            <a:endParaRPr b="0" lang="en-US" sz="7200" spc="-1" strike="noStrike">
              <a:solidFill>
                <a:srgbClr val="ccff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Meiosis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447920"/>
            <a:ext cx="91440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iosis is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ype of cell division by which germ cells (eggs and sperm) are produce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One parent cell produces four daughter cell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aughter cells have half the number of chromosomes found in the original parent ce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Meiosis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2666880"/>
            <a:ext cx="76201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uring meiosis, DNA replicates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nc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but the nucleus divide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wic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Meiosis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25909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 stages can be described for each division of the nucle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Arial"/>
              </a:rPr>
              <a:t>Meiosis I</a:t>
            </a:r>
            <a:endParaRPr b="0" lang="en-US" sz="48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7524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362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rst division of mei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First Division of Meiosis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hase 1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chromosome duplicates and remains closely associated. These are called sister chromatid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phase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hromosomes align at the center of the ce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phase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hromosome pairs separate with sister chromatids remaining toge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ophase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wo daughter cells are formed with each daughter containing only one chromosome of the chromosome pair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Prophase  I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9146" r="0" b="0"/>
          <a:stretch/>
        </p:blipFill>
        <p:spPr>
          <a:xfrm>
            <a:off x="533520" y="1752480"/>
            <a:ext cx="8076960" cy="4208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2"/>
              </a:rPr>
              <a:t>http://everyschool.org/u/logan/cellreproductionx/rogersa/research/meiosis.html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Prophase I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060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632448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2"/>
              </a:rPr>
              <a:t>http://everyschool.org/u/logan/cellreproductionx/rogersa/research/meiosis.html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Metaphase I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9480" y="1668600"/>
            <a:ext cx="8001000" cy="4429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632448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2"/>
              </a:rPr>
              <a:t>http://everyschool.org/u/logan/cellreproductionx/rogersa/research/meiosis.html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Telophase I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20612" r="0" b="0"/>
          <a:stretch/>
        </p:blipFill>
        <p:spPr>
          <a:xfrm>
            <a:off x="1371600" y="1523880"/>
            <a:ext cx="6477120" cy="4632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632448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everyschool.org/u/logan/cellreproductionx/rogersa/research/meiosis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Animated Cycle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954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www.cellsalive.com/cell_cycle.htm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Meiosis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95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Division of Mei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Second Division of Meiosis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hase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NA does not replic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phase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hromosomes line up at the center of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phase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entromeres divide and sister chromatids move separately to each po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ophase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ell division is comple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ur haploid daughter cells are form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Prophase II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28150" r="0" b="0"/>
          <a:stretch/>
        </p:blipFill>
        <p:spPr>
          <a:xfrm>
            <a:off x="1828800" y="1447920"/>
            <a:ext cx="5334120" cy="4663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32448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2"/>
              </a:rPr>
              <a:t>http://everyschool.org/u/logan/cellreproductionx/rogersa/research/meiosis.html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Metaphase II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1776240"/>
            <a:ext cx="7924680" cy="4338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632448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2"/>
              </a:rPr>
              <a:t>http://everyschool.org/u/logan/cellreproductionx/rogersa/research/meiosis.html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Telophase II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3520" y="1778040"/>
            <a:ext cx="8229600" cy="4246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632448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everyschool.org/u/logan/cellreproductionx/rogersa/research/meiosis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Meiosis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5008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6324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biosci.uga.edu/almanac/bio_103/notes/apr_3.html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Meiosis Animation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0" y="157644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80880" y="60958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rothamsted.bbsrc.ac.uk/notebook/courses/guide/movie/meiosis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Differences in Mitosis &amp; Meiosis</a:t>
            </a:r>
            <a:endParaRPr b="0" lang="en-US" sz="40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ex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divides o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daughter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tic information is ident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x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divides tw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haploid daughter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tic information is diffe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Comparison Animations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438280"/>
            <a:ext cx="83055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pbs.org/wgbh/nova/baby/divi_flash.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usoe.k12.ut.us/curr/science/sciber00/7th/genetics/sciber/animatin.ht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ff33"/>
                </a:solidFill>
                <a:latin typeface="Arial"/>
              </a:rPr>
              <a:t>MITOSIS </a:t>
            </a:r>
            <a:endParaRPr b="0" lang="en-US" sz="7200" spc="-1" strike="noStrike">
              <a:solidFill>
                <a:srgbClr val="ccff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Mitosis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600200"/>
            <a:ext cx="84582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rocess of cell division which results in the production of two daughter cells from a single parent cell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daughter cells are identical to one another and to the original parent ce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Mitosis can be divided into stages </a:t>
            </a:r>
            <a:endParaRPr b="0" lang="en-US" sz="40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1981080"/>
            <a:ext cx="72388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a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a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ophase &amp; Cytokine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Interphase</a:t>
            </a:r>
            <a:br>
              <a:rPr sz="4000"/>
            </a:b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The cell prepares for division</a:t>
            </a:r>
            <a:endParaRPr b="0" lang="en-US" sz="40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03884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C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repl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elles repl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increases in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0" y="1676160"/>
            <a:ext cx="40384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repl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elles repl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increases in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19520" y="3657600"/>
            <a:ext cx="35906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33"/>
                </a:solidFill>
                <a:latin typeface="Arial"/>
              </a:rPr>
              <a:t>Interphase</a:t>
            </a:r>
            <a:endParaRPr b="0" lang="en-US" sz="5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828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26812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991040" y="26812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63244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graphs from: http://www.bioweb.uncc.edu/biol1110/Stages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Prophase</a:t>
            </a:r>
            <a:br>
              <a:rPr sz="4000"/>
            </a:b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The cell prepares for nuclear division</a:t>
            </a:r>
            <a:endParaRPr b="0" lang="en-US" sz="40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ckages DNA into chromos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0600" y="2285640"/>
            <a:ext cx="4038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ckages DNA into chromos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743200" y="3581280"/>
            <a:ext cx="38196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3:38:29Z</dcterms:created>
  <dc:creator>Mary Poarch</dc:creator>
  <dc:description/>
  <dc:language>en-US</dc:language>
  <cp:lastModifiedBy>Mary Poarch</cp:lastModifiedBy>
  <dcterms:modified xsi:type="dcterms:W3CDTF">2005-02-13T21:02:50Z</dcterms:modified>
  <cp:revision>72</cp:revision>
  <dc:subject/>
  <dc:title>Mitosis</dc:title>
</cp:coreProperties>
</file>